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651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651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447920" cy="505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Palatino Linotype"/>
              </a:rPr>
              <a:t>Click to edit the title text format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"/>
          <p:cNvSpPr/>
          <p:nvPr/>
        </p:nvSpPr>
        <p:spPr>
          <a:xfrm>
            <a:off x="5105520" y="561960"/>
            <a:ext cx="32004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3280" y="6234120"/>
            <a:ext cx="6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8A50-8507-4669-A87A-0260BD041F0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447920" cy="505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1" lang="en-US" sz="6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756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ole of financing strategies in national level water sector planning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nya and Mozambique</a:t>
            </a:r>
            <a:endParaRPr b="1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09480" y="5409720"/>
            <a:ext cx="739152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ameel Virjee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WI – FWG Meeting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ckholm, Sweden, August 25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2006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05040" y="-36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Arial"/>
              </a:rPr>
              <a:t>Key Emerging Points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ends to be sparse and of poor quality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llection for the ‘model’ should be in the context of informing a national monitoring system and its developmen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should be within existing government institution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to follow must be widely consultative to ensure that model assumptions are understood and accepted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to follow must be iterative to demonstrate the impact of bad data on decision making outcome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should examine different options available to finance sector target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87a"/>
                </a:solidFill>
                <a:latin typeface="Arial"/>
              </a:rPr>
              <a:t>Practical benefits of sector financial analysis and financing strategies</a:t>
            </a:r>
            <a:endParaRPr b="1" lang="en-US" sz="30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onor resourc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positive impact of finances contributed in a SWAp arrangement and underpin a consolidated sector plan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nancial pl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secto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plans to Minister of Water, Ministry of Finance, Joint Sector Review and as part of PRSP monitoring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guidance to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central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ter sector actor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cost of running the sector appropriately to achieve impac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financing to different levels of government or sector institution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87a"/>
                </a:solidFill>
                <a:latin typeface="Arial"/>
              </a:rPr>
              <a:t>Practical benefits of sector financial analysis and financing strategies</a:t>
            </a:r>
            <a:endParaRPr b="1" lang="en-US" sz="30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financial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countability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allowing the measurement of achievements against financial alloca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utput monito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sector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monstrate impact of sector finance and help to leverage more resourc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33760" y="-360"/>
            <a:ext cx="56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Arial"/>
              </a:rPr>
              <a:t>Key Features of Financing Strategies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costs of meeting sector target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investment costs for new and replacement infrastructure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 and maintenance cost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linked to management/ development of the sector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level of available resourc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iff revenue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or fund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’s own resource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financing balances in the secto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funds sufficient at a national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funds available equitably across different region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ew infrastructure development sustainable?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Arial"/>
              </a:rPr>
              <a:t>Financing Strategies: Kenya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or moving towards a SWAP and financing strategy is needed for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pinning the sector investment plan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channels of finance in the sector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ng financial management issues in the sector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separation of roles in sector reform enhances need for coherent national strategy for financing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 for such a strategy also driven by the need for the sector to better represent its budget plans to the MoF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09760" y="-360"/>
            <a:ext cx="683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Arial"/>
              </a:rPr>
              <a:t>Financing Strategies: Kenya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"/>
          <p:cNvSpPr/>
          <p:nvPr/>
        </p:nvSpPr>
        <p:spPr>
          <a:xfrm>
            <a:off x="6615000" y="5506920"/>
            <a:ext cx="73836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963800"/>
            <a:ext cx="6053040" cy="441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INANCING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701800"/>
            <a:ext cx="1919160" cy="4431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lling Invest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76680" y="3144960"/>
            <a:ext cx="1919160" cy="4413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lling Invest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05440" y="3587760"/>
            <a:ext cx="1919160" cy="4413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lling Invest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33840" y="4030560"/>
            <a:ext cx="1919520" cy="4413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lling Invest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4768920"/>
            <a:ext cx="73800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85920" y="4768920"/>
            <a:ext cx="73836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24280" y="4768920"/>
            <a:ext cx="73800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62280" y="4768920"/>
            <a:ext cx="73836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00640" y="4768920"/>
            <a:ext cx="73800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38640" y="4768920"/>
            <a:ext cx="73836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77000" y="4768920"/>
            <a:ext cx="73800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15000" y="4768920"/>
            <a:ext cx="738360" cy="441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53040" y="2405160"/>
            <a:ext cx="738000" cy="592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85920" y="5506920"/>
            <a:ext cx="73836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24280" y="5506920"/>
            <a:ext cx="73800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62280" y="5506920"/>
            <a:ext cx="73836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00640" y="5506920"/>
            <a:ext cx="73800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38640" y="5506920"/>
            <a:ext cx="73836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77000" y="5506920"/>
            <a:ext cx="73800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5506920"/>
            <a:ext cx="73800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53040" y="4325760"/>
            <a:ext cx="738000" cy="44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53040" y="1668600"/>
            <a:ext cx="738000" cy="295200"/>
          </a:xfrm>
          <a:prstGeom prst="downArrow">
            <a:avLst>
              <a:gd name="adj1" fmla="val 36222"/>
              <a:gd name="adj2" fmla="val 3055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1373040"/>
            <a:ext cx="6053040" cy="295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ctor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5235480"/>
            <a:ext cx="4281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vailable Sector Fi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43800" y="1349280"/>
            <a:ext cx="76320" cy="1067040"/>
          </a:xfrm>
          <a:custGeom>
            <a:avLst/>
            <a:gdLst>
              <a:gd name="textAreaLeft" fmla="*/ 0 w 76320"/>
              <a:gd name="textAreaRight" fmla="*/ 2736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1882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18828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467480" y="56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2568600"/>
            <a:ext cx="1600200" cy="1159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annels of finance and their leveraging of user/community/market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09760" y="-360"/>
            <a:ext cx="683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Arial"/>
              </a:rPr>
              <a:t>Financing Strategies: Kenya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26828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eing followed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workshop to adopt sector movement to a SWAp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analysis of sector finances by a multi-stakeholder group in the Ministry of Water and Irrigation (SIP working group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workshop to review assumptions in the analysis included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Services Board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Services Trust Fu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Services Regulatory Boar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Partne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y forward adopted and further data collection exercises began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policy options report – October 2006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ng strategy – October 2006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25760" y="-360"/>
            <a:ext cx="661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Arial"/>
              </a:rPr>
              <a:t>Financing Strategies: Mozambique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196640"/>
            <a:ext cx="77724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rural water financing strategy identified by governmen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on institutional work done as part of the country MDG roadmap and other sector document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sector reform issues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decentralization to the district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 for the National Directorate for Water to increase its policy formulation and monitoring role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to better coordinate fragmented donor project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57040" y="-36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Arial"/>
              </a:rPr>
              <a:t>Financing Strategies: Mozambique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eing followed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identification mission and development of process TORs with Government of Mozambique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 financial assessment for the rural water sector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 on sector finance to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baseline financial analysi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overall budget process and financial bottlenecks in the secto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options analyzed by DNA-GPC (with consultant support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strategy proposed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23:05:23Z</dcterms:created>
  <dc:creator>Addison</dc:creator>
  <dc:description/>
  <dc:language>en-US</dc:language>
  <cp:lastModifiedBy>Vanessa Celosse</cp:lastModifiedBy>
  <cp:lastPrinted>2003-08-13T21:38:48Z</cp:lastPrinted>
  <dcterms:modified xsi:type="dcterms:W3CDTF">2006-08-25T06:28:32Z</dcterms:modified>
  <cp:revision>295</cp:revision>
  <dc:subject/>
  <dc:title>PowerPoint Presentation</dc:title>
</cp:coreProperties>
</file>